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397D-80DC-409E-9DD7-39D376378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2757-2D3C-45A3-A90F-E973C5A90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AB40-78B2-4CFD-A811-B86CCB544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626D-E0F4-48B8-B432-292775CE7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E135-6ACA-4351-B7F9-40F472E64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B013-AC1F-4E9D-9F81-EF7249DCE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54BC-463E-4AC0-BE32-C22A0ADF10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A658-51FA-404A-8CAE-B702902FF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15BA-7D86-4CB7-BA7B-9FF5A17954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2805-474F-4611-82A3-354F57CC01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EC40-958C-4A11-91E5-0788B4242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7BEC-3F3A-4CFE-87B2-33CB5981C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487B-70FA-4E5A-A6CD-9A7E32CE11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0649-6DCA-49B2-BB69-608D652EE8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D46C-7A26-41F2-9DCF-69E3EDC54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136A-F617-4707-8AFB-0D805207B6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B9C4-73D9-4443-A85A-56682D73B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4E66-4A95-4DE1-9A6C-75754A34B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0064-7238-4EE3-A98E-8366595B3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4F66-3CA2-4808-A8FE-C5F8D4070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A797-EB55-4CD9-871D-ECBE904C3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3B0A-1509-4402-ACF4-E7DCA647A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42F0-2145-47D8-B45C-B7F52C133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9E6D-CE6F-4F13-B4C0-1AC457C9F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7FF5-2369-46A5-B18C-A75E784C883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DEB1-2D14-4503-8BE6-01665770598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Feedback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s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: growth = population x 50%, population x 9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4210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s have limi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low: growth = population x 50%, population x 9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What would happen if growth rates decrease 20% each year and we simulate until time 30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st lec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Line 2"/>
          <p:cNvSpPr/>
          <p:nvPr/>
        </p:nvSpPr>
        <p:spPr>
          <a:xfrm>
            <a:off x="2587680" y="28144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5384880" y="282240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1840" y="24750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59480" y="2532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573360" y="2347920"/>
            <a:ext cx="1800360" cy="936720"/>
            <a:chOff x="3573360" y="2347920"/>
            <a:chExt cx="1800360" cy="936720"/>
          </a:xfrm>
        </p:grpSpPr>
        <p:sp>
          <p:nvSpPr>
            <p:cNvPr id="104" name="Rectangle 7"/>
            <p:cNvSpPr/>
            <p:nvPr/>
          </p:nvSpPr>
          <p:spPr>
            <a:xfrm>
              <a:off x="3573360" y="2347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026240" y="2347920"/>
              <a:ext cx="8938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4220640"/>
            <a:ext cx="85345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8534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 is how the system affect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587680" y="324468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84880" y="32576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01840" y="29084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59480" y="29638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 flipH="1">
            <a:off x="3849840" y="3249720"/>
            <a:ext cx="1382400" cy="11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573360" y="2779560"/>
            <a:ext cx="1800360" cy="936720"/>
            <a:chOff x="3573360" y="2779560"/>
            <a:chExt cx="1800360" cy="936720"/>
          </a:xfrm>
        </p:grpSpPr>
        <p:sp>
          <p:nvSpPr>
            <p:cNvPr id="115" name="Rectangle 9"/>
            <p:cNvSpPr/>
            <p:nvPr/>
          </p:nvSpPr>
          <p:spPr>
            <a:xfrm>
              <a:off x="3573360" y="277956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893040" y="2779560"/>
              <a:ext cx="116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1"/>
          <p:cNvSpPr/>
          <p:nvPr/>
        </p:nvSpPr>
        <p:spPr>
          <a:xfrm>
            <a:off x="3849840" y="43322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5384880" y="34732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6200" y="3124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372360" y="31798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5"/>
          <p:cNvSpPr/>
          <p:nvPr/>
        </p:nvSpPr>
        <p:spPr>
          <a:xfrm flipH="1">
            <a:off x="2745720" y="3465360"/>
            <a:ext cx="138276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700360" y="47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587680" y="346068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170028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9"/>
          <p:cNvSpPr/>
          <p:nvPr/>
        </p:nvSpPr>
        <p:spPr>
          <a:xfrm flipH="1" rot="10800000">
            <a:off x="4761360" y="2400480"/>
            <a:ext cx="1538280" cy="106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3571920" y="2995560"/>
            <a:ext cx="1801800" cy="938160"/>
            <a:chOff x="3571920" y="2995560"/>
            <a:chExt cx="1801800" cy="938160"/>
          </a:xfrm>
        </p:grpSpPr>
        <p:sp>
          <p:nvSpPr>
            <p:cNvPr id="128" name="Rectangle 11"/>
            <p:cNvSpPr/>
            <p:nvPr/>
          </p:nvSpPr>
          <p:spPr>
            <a:xfrm>
              <a:off x="3571920" y="2995560"/>
              <a:ext cx="180180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3621240" y="2995560"/>
              <a:ext cx="1703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lbed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2" descr="image.png"/>
          <p:cNvPicPr/>
          <p:nvPr/>
        </p:nvPicPr>
        <p:blipFill>
          <a:blip r:embed="rId1"/>
          <a:srcRect l="0" t="0" r="0" b="11862"/>
          <a:stretch/>
        </p:blipFill>
        <p:spPr>
          <a:xfrm>
            <a:off x="2776680" y="619200"/>
            <a:ext cx="4249440" cy="4124160"/>
          </a:xfrm>
          <a:prstGeom prst="rect">
            <a:avLst/>
          </a:prstGeom>
          <a:ln w="0">
            <a:noFill/>
          </a:ln>
        </p:spPr>
      </p:pic>
      <p:sp>
        <p:nvSpPr>
          <p:cNvPr id="132" name="Line 3"/>
          <p:cNvSpPr/>
          <p:nvPr/>
        </p:nvSpPr>
        <p:spPr>
          <a:xfrm>
            <a:off x="3021120" y="58975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818320" y="579276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692360" y="5560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966000" y="5505480"/>
            <a:ext cx="20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7"/>
          <p:cNvSpPr/>
          <p:nvPr/>
        </p:nvSpPr>
        <p:spPr>
          <a:xfrm flipH="1" rot="10800000">
            <a:off x="5151960" y="4836600"/>
            <a:ext cx="1538280" cy="10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4006800" y="5432400"/>
            <a:ext cx="1800360" cy="938160"/>
            <a:chOff x="4006800" y="5432400"/>
            <a:chExt cx="1800360" cy="938160"/>
          </a:xfrm>
        </p:grpSpPr>
        <p:sp>
          <p:nvSpPr>
            <p:cNvPr id="138" name="Rectangle 9"/>
            <p:cNvSpPr/>
            <p:nvPr/>
          </p:nvSpPr>
          <p:spPr>
            <a:xfrm>
              <a:off x="4006800" y="54324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49760" y="5432400"/>
              <a:ext cx="5144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Ic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Line 11"/>
          <p:cNvSpPr/>
          <p:nvPr/>
        </p:nvSpPr>
        <p:spPr>
          <a:xfrm>
            <a:off x="5794200" y="6191280"/>
            <a:ext cx="986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942240" y="590544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lect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ater in the da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2998800" y="1627200"/>
            <a:ext cx="1800360" cy="938160"/>
            <a:chOff x="2998800" y="1627200"/>
            <a:chExt cx="1800360" cy="938160"/>
          </a:xfrm>
        </p:grpSpPr>
        <p:sp>
          <p:nvSpPr>
            <p:cNvPr id="144" name="Rectangle 3"/>
            <p:cNvSpPr/>
            <p:nvPr/>
          </p:nvSpPr>
          <p:spPr>
            <a:xfrm>
              <a:off x="2998800" y="16272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3508560" y="1627200"/>
              <a:ext cx="7808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Da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5"/>
          <p:cNvSpPr/>
          <p:nvPr/>
        </p:nvSpPr>
        <p:spPr>
          <a:xfrm>
            <a:off x="2013120" y="20923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565440" y="3571920"/>
            <a:ext cx="1800360" cy="936720"/>
            <a:chOff x="3565440" y="3571920"/>
            <a:chExt cx="1800360" cy="936720"/>
          </a:xfrm>
        </p:grpSpPr>
        <p:sp>
          <p:nvSpPr>
            <p:cNvPr id="148" name="Rectangle 7"/>
            <p:cNvSpPr/>
            <p:nvPr/>
          </p:nvSpPr>
          <p:spPr>
            <a:xfrm>
              <a:off x="3565440" y="3571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136760" y="3571920"/>
              <a:ext cx="657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Cit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Line 9"/>
          <p:cNvSpPr/>
          <p:nvPr/>
        </p:nvSpPr>
        <p:spPr>
          <a:xfrm>
            <a:off x="4809960" y="213372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0"/>
          <p:cNvSpPr/>
          <p:nvPr/>
        </p:nvSpPr>
        <p:spPr>
          <a:xfrm flipH="1">
            <a:off x="4465080" y="4041720"/>
            <a:ext cx="1438200" cy="12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91" y="0"/>
                </a:moveTo>
                <a:cubicBezTo>
                  <a:pt x="4045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4900"/>
                  <a:pt x="21600" y="82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4465800" y="2349360"/>
            <a:ext cx="9442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755360"/>
            <a:ext cx="10098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12000" y="426096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5886360" y="1773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enerat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5221440" y="27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39640" y="5732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information delivered by a feedback can only affect futur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1: Balan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negative, self-correcting, discrepancy-reducing, r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quilibrating or goal-seeking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image.pdf"/>
          <p:cNvPicPr/>
          <p:nvPr/>
        </p:nvPicPr>
        <p:blipFill>
          <a:blip r:embed="rId1"/>
          <a:stretch/>
        </p:blipFill>
        <p:spPr>
          <a:xfrm>
            <a:off x="1806480" y="2997360"/>
            <a:ext cx="5645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ffee Cups Cooling or Warm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coffee temperature(t) = coffee temperature(t – dt) – flow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: coffee temperature = 8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5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20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low: discrepancy x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screpancy: coffee temperature – room temp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oom temperature: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2: Reinfor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positive, self-reinforcing, discrepancy-enhancing, d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lf-enhancing behavior that leads to growth or even collap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image.pdf"/>
          <p:cNvPicPr/>
          <p:nvPr/>
        </p:nvPicPr>
        <p:blipFill>
          <a:blip r:embed="rId1"/>
          <a:stretch/>
        </p:blipFill>
        <p:spPr>
          <a:xfrm>
            <a:off x="2195640" y="3357720"/>
            <a:ext cx="5405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 R Andrade Nt</cp:lastModifiedBy>
  <dcterms:modified xsi:type="dcterms:W3CDTF">2020-07-30T16:46:46Z</dcterms:modified>
  <cp:revision>4</cp:revision>
  <dc:subject/>
  <dc:title>Feedbacks</dc:title>
</cp:coreProperties>
</file>